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CBC-8F1A-45EA-8980-9D1DBA88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58C-38C0-486F-B11C-FC9244C7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463-7616-483A-BB91-0AF12A49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5F4-2F49-4587-9483-459CFB6F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EEFB-1252-4A78-9F0A-E9F9506B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7655-E4D4-43AA-A0B5-11402037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FD6B-05CE-45A4-B24F-539A853B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F18D-01C4-44B8-9217-72F09F19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39D8-6041-4F2F-9B90-CE1B2E18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66BA-3707-4D88-9D11-74CF6A01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FB2D-756D-4B50-9270-E5D6149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F6C-3433-4EC6-8A79-0FC26D43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2EDA-F298-4EEC-9766-1870F722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E16D-B761-455C-80F9-700D466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8854-5433-4E7E-95CE-C9871CBC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946B-AC30-4B85-8F01-D72166D5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B6B9-B332-4EE5-AC45-26C7CE8B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13B-EC5C-4325-B515-B31A38BF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CCA-A28C-4372-BF4A-854438C1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4A2-B763-41F6-8E1E-3D795BAB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194-4E93-41DA-9D26-F8A27493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E52-BA20-44FA-AA74-913992F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AE1-2049-4D30-9DF2-4B8697BA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FDB-D3FD-4A39-BF88-0D2A8454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57A5-6C2F-4DE6-910D-94BA133201F4}" type="slidenum"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1A89-087A-43A4-B350-F13D13E6B689}" type="slidenum"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Impact"/>
              </a:rPr>
              <a:t>TIETOTEKNIIKAN KURSSIT 2001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05160" y="2227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Impact"/>
              </a:rPr>
              <a:t>Muut tietotekniikan kurssi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Tietotekniikan alkeis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Tietotekniikan perus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Tietotekniikan jatko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Atk-englannin perus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Ammattiosaston mikrotuki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2640" y="2227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ietokoneen A-kortti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Tietotekniikan merkitys ja laitteisto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Laitteen käyttö ja tiedon hallin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Tekstinkäsitte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Taulukkolasken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Tietokantaohjelman käyttö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itysgrafiikkaohjelman käyttö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7:54:25Z</dcterms:created>
  <dc:creator>atk</dc:creator>
  <dc:description/>
  <dc:language>en-US</dc:language>
  <cp:lastModifiedBy>Kurssi</cp:lastModifiedBy>
  <dcterms:modified xsi:type="dcterms:W3CDTF">2003-02-17T11:16:30Z</dcterms:modified>
  <cp:revision>4</cp:revision>
  <dc:subject/>
  <dc:title>TIETOTEKNIIKAN KURSSIT 2001</dc:title>
</cp:coreProperties>
</file>